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B2DD-E971-4CC9-835B-CDD018CBF7B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03DA-1D44-4DEF-A255-675F084B5D5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A5CD-1CD9-4D48-A076-18C6E11612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E52A-81D9-4B92-9284-A4F187AF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571A-3485-4AC3-A356-130ACB1E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1A1CF-026D-48DF-B0AC-E593221C8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6BC5-9F06-4E9C-B6B8-A8CB821A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BB7BE-7959-4974-8095-A079862CF84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D9512-DD3A-479B-A0ED-93D8AEA85E3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613B4-84AD-4058-8A63-D62976E838D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DB804-D8C7-4220-9FAC-73D438A8553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A3065-CD33-4BC1-B1E1-8B034AA82B5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520AD-B5DC-4DE4-B048-D103B093B88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38D09-FC22-4E6D-912B-30EEA7A0853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226A1-8112-45FD-92CE-46342953EFC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A5DF4-6358-4CF7-9EEE-E9FC2112E54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709E6-D607-4C18-8DD1-7424CFBD8B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51C6-F32A-4821-B782-DF8EC68F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41E55-2B4E-4364-AC23-30EF6B35B61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3291-9BF6-429A-B585-A9A2322E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A7A4-A87B-4E99-980E-67BBA188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D0FE6-9DFD-4E9F-AA0F-46CE46B67DE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B0C6B-EB6F-4912-9A13-8DC7EAD4FBF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08156-6454-4DA5-B930-AC3C766DD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5C64-021A-43B4-9D63-AE1B86DF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62A5D-4474-4E81-B345-331956F10C6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36C94-D325-49BC-BE14-FB25BC3E61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D791D-DB83-41D3-9F22-BC93B291CC6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962CA-0627-4D4C-80F4-5A2D07F3406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2B6E7-E5E2-4CA7-AD82-97BEAACE978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35C3B-064D-4ECF-BA35-16D5CF8131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2BED1-8725-4F0F-81F3-EA6BD255902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E1928-C46D-409E-AD99-2D5DCB5BCD9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9A1B9-8672-4D45-B494-E2AE196D1F4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C199A7-4B77-49E5-A897-7E7F8FAC3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7966-B5C5-4581-8DE9-5C33165C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AC3841-2FC4-4D90-BDAC-6519449D2D1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045480-1A79-4690-A72E-1BBAF966A13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16A25E-46DE-4059-A68B-415A09F6C83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25AF7D-5E51-486E-8E23-4C41D0D2517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9DC917-E62F-4E9B-BB3B-D65CB625509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D967AB-8381-4303-9999-5746759B7A8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4F03DA-D7A2-4AC8-8D19-A13298DD994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1738AC-02A1-483F-8759-CB8D806B66F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722617-AAA0-43EB-98A6-B670FB7B543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38790A-85A0-45FA-AD6F-84CFF00B2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7B77-A8E6-4B06-997F-7874B02A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964A0C-D01B-4882-A814-CD13DC974C3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B9EF-066A-4040-B7FC-5D31ED3D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CE36-622F-4B3F-B5E4-59E45B37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090B-4519-4674-8976-23AB2076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A36A-4901-4298-AACA-D138E8A271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E4E9-4CD6-4F8B-A9DC-AAC0135492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7C5E-6E93-43F7-A554-5CF39F688B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79C3-2F69-4E95-A06E-C81C02A2CA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数字证书挂失补办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8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数字证书挂失补办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55640" y="198900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数字证书挂失补办办理条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存储数字证书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遗失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人为损坏导致无法使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数字证书挂失补办要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企业名称等信息未发生变化，与原来提交的申请信息一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642960" y="20718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远程办理：通过互联网远程补办数字证书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（一）远程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1"/>
          <p:cNvSpPr/>
          <p:nvPr/>
        </p:nvSpPr>
        <p:spPr>
          <a:xfrm>
            <a:off x="324000" y="93816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使用浏览器登录网址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csg.szitrus.com.cn/gateway/regist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上，填写公司名称和需要补办的证书编号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图片 4" descr=""/>
          <p:cNvPicPr/>
          <p:nvPr/>
        </p:nvPicPr>
        <p:blipFill>
          <a:blip r:embed="rId1"/>
          <a:stretch/>
        </p:blipFill>
        <p:spPr>
          <a:xfrm>
            <a:off x="1116000" y="1889280"/>
            <a:ext cx="690876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（一）远程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1"/>
          <p:cNvSpPr/>
          <p:nvPr/>
        </p:nvSpPr>
        <p:spPr>
          <a:xfrm>
            <a:off x="324000" y="1052640"/>
            <a:ext cx="813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下载相关补办申请资料并进行填写，填写的信息必须与公司信息一致（请仔细核对）；申请材料包括：营业执照副本复印件、组织机构代码副本证复印件（如企业已办理三证合一，只需要提供营业执照副本）、数字证书申请表、联系人身份证复印件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后和支付凭证快递到天威诚信数字证书服务中心（地址请见第五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快递的纸质申请材料并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完成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制作，并和发票一起快递给供应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特别说明：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为确保及时、准确的收到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及发票，天威诚信选用顺丰快递，快递费用由供应商到付</a:t>
            </a:r>
            <a:r>
              <a:rPr b="1" lang="zh-CN" sz="1800" spc="-1" strike="noStrike">
                <a:solidFill>
                  <a:srgbClr val="558ed5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文本框 5"/>
          <p:cNvSpPr/>
          <p:nvPr/>
        </p:nvSpPr>
        <p:spPr>
          <a:xfrm>
            <a:off x="755640" y="2924280"/>
            <a:ext cx="806616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字证书有效期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三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费用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23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不限制使用次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5"/>
          <p:cNvSpPr/>
          <p:nvPr/>
        </p:nvSpPr>
        <p:spPr>
          <a:xfrm>
            <a:off x="642960" y="928800"/>
            <a:ext cx="80661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公司补办证书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张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6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5"/>
          <p:cNvSpPr/>
          <p:nvPr/>
        </p:nvSpPr>
        <p:spPr>
          <a:xfrm>
            <a:off x="714240" y="1000080"/>
            <a:ext cx="80661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远程办理方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快递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北京市海淀区上地八街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楼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1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室，北京天威诚信电子商务服务有限公司，认证服务部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10-509475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04Z</dcterms:modified>
  <cp:revision>209</cp:revision>
  <dc:subject/>
  <dc:title>幻灯片 1</dc:title>
</cp:coreProperties>
</file>